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521-5E76-4502-A450-B57CF9FA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5DA-FA4E-4A29-B333-ACED0D66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FA1-AADD-4D3E-9087-9A687D7F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CA6-4870-45EE-B8D1-EDBCBD1C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712B-EF9B-4C4B-B1C7-5453B193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34CB-0AD5-48EE-89E1-084962A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3BB5-8302-4492-ACDA-B6AFE46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44BA-A5E1-46EA-8627-549DC4A7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104A-4A4B-4544-90A8-FF46574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1E47-681F-494A-8F11-4B4FE73C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8F67-2485-4B53-89A5-CC9BFD0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676-58FD-4F97-85CC-BD30D8A2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CBCC-C0F3-4313-9F83-F575F03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39D8-F2CB-4499-AEC2-F7A1D81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5082-8A0F-4E04-955E-A81B2765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178F-5942-46A4-8D8A-A9B92C8F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930A-48D8-41EF-BB12-0E02E85E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5507-DDC7-4DF3-AD27-1702753D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3E16-C47C-42A9-A3AF-E9FF2D44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11F3-2322-4460-A4BD-78174FA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7EED-14FE-425D-A2C6-8ED8452F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A10AD-B89E-4C83-AA5F-EAB06DAB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834-D557-42AD-BBBB-BBF5E99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3695-F4D3-4321-9932-D93C9E02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C614-1004-459C-AFB4-A0B5B79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36E0-F3DA-4DFE-89C9-05DF83B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2EE4-0B46-465D-8D4F-BE52EE9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48F4-A684-4256-B65F-E1A18DB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AAD6-AFCA-4834-9469-2C0356EB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CF73-D6D6-4AED-B794-422D99E6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130B-802C-43A9-AAA6-4B56B4E2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16ED-7E57-41ED-A407-FB3606A7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B8B2-33BA-419E-AA14-EEF454FE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FB5-BC63-43D2-A1C9-8BA86D95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2985-7BE5-4D68-8EB3-C8829ACB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B9C8-04AC-4A4B-A0CE-EB5C8B7B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2B2B-B5C6-41B3-A9A3-DBF6B62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E0AFF-CF2A-4E9E-AD96-0A80B30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B4AA-FED5-40A9-8AC8-6CA09F1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E1F83-F9B4-45E5-9A84-AB1D25FB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19022-C79B-4D34-A357-80B31DFF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4E3C9-E8B6-4424-AAF4-1345CD3F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0A05-A054-4969-A435-05CB73E8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6C7-0A07-4432-958F-19C81CB8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147-4F8A-4638-95F8-219B8A28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CD1-6222-46D4-B709-69E6DCA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C82-319D-4A38-9877-B123084B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AD0-ED01-47F2-A48E-EC754A08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BC15-4C5A-4101-8E4B-FA1AD75294B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BB10-6CF0-4E77-83CC-7598890D3D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8E2F-4DC2-4BD8-BFCA-BA75B12F08B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2C99-0FAF-40AB-9BBA-1D9520D262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328680" y="1023840"/>
            <a:ext cx="9472680" cy="505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  <a:ea typeface="Arial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0" y="401760"/>
            <a:ext cx="9113760" cy="4524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104760" y="4554360"/>
            <a:ext cx="2782800" cy="2087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397560" y="3746520"/>
            <a:ext cx="2716200" cy="2036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986200" y="45543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877000" y="480060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638760" cy="1815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24000" y="139680"/>
            <a:ext cx="8350200" cy="78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Гаджиева Аида Ирзаевна</cp:lastModifiedBy>
  <dcterms:modified xsi:type="dcterms:W3CDTF">2022-11-23T16:23:23Z</dcterms:modified>
  <cp:revision>7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